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28.png" ContentType="image/png"/>
  <Override PartName="/ppt/media/image8.wmf" ContentType="image/x-wmf"/>
  <Override PartName="/ppt/media/image7.jpeg" ContentType="image/jpeg"/>
  <Override PartName="/ppt/media/image12.wmf" ContentType="image/x-wmf"/>
  <Override PartName="/ppt/media/image4.png" ContentType="image/png"/>
  <Override PartName="/ppt/media/image24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7.wmf" ContentType="image/x-wmf"/>
  <Override PartName="/ppt/media/image25.wmf" ContentType="image/x-wmf"/>
  <Override PartName="/ppt/media/image20.gif" ContentType="image/gif"/>
  <Override PartName="/ppt/media/image15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6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7.gif" ContentType="image/gif"/>
  <Override PartName="/ppt/media/image3.png" ContentType="image/pn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697-D290-46BD-ACCD-F5E92B76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75A-2DCC-4371-BFC6-A163105D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930-D51F-4B65-97AE-830C6116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02F-B29F-40B6-87DB-578E24EA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AB325-9BC1-4789-AF09-7E13123C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D40B4-F549-41B9-85EC-9A014966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28D3B-CB69-4B31-9084-E0F9B437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836CE-3714-4769-8A09-7288329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482C67-27A6-48A0-9D9C-16944598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30979-98D1-4137-9C91-21483077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08D93-C980-4F6B-8555-9C1953CD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756-8F07-4614-8487-2A04345B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E5C2A-AE65-4202-BD92-8C59943C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A7378-E2CC-471F-B30A-332CF57A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988DA-E44B-403C-9B2D-75005AEA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99B4F-A8DB-4F23-815A-641108C8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04928-263B-4EA9-BB4A-E40F3A30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2C5A-6D44-4631-8C1D-D5279D96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361-7F14-4A57-92D3-0605E46C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FD46-B928-4162-9292-CE99B2A1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581-5A20-485B-8230-70B291AD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121-6605-4FB2-99BB-0B64CA96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916-3B34-4291-B062-4B536179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63AF-C038-4B82-97AA-11B977D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511A-A0F2-4935-819D-4EA040FBD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F1E2-A1B8-41D3-AAE1-7EEDDC5E02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gif"/><Relationship Id="rId4" Type="http://schemas.openxmlformats.org/officeDocument/2006/relationships/image" Target="../media/image2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25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ine Feri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h war in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095880" y="152280"/>
            <a:ext cx="2667240" cy="1778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2666880" cy="1778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bin im Museum fotografier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77120" y="4038480"/>
            <a:ext cx="1666800" cy="178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43000" y="1981080"/>
            <a:ext cx="1219320" cy="1019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09480" y="5181480"/>
            <a:ext cx="1692360" cy="9320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Eisbecker gekau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315200" y="1295280"/>
            <a:ext cx="847800" cy="666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057400" y="2590920"/>
            <a:ext cx="1362240" cy="961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238880" y="380988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362320" y="3886200"/>
            <a:ext cx="1442880" cy="1897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bin in Halifax gefah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3795840" cy="2550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Antik gekau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89320" y="2309760"/>
            <a:ext cx="2563920" cy="2236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 hat mir gut gefa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200400" y="20574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ova Scotia ist sehr sehr pri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514600" y="2438280"/>
            <a:ext cx="2857680" cy="2876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7524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ar in Nova Scot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19520" y="3581280"/>
            <a:ext cx="3952800" cy="3019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095880" y="152280"/>
            <a:ext cx="2857680" cy="2876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war in meinem Hau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3352680" cy="2524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52280" y="1523880"/>
            <a:ext cx="2743200" cy="1959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meine Kusine besuc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3811320" cy="2532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den See besichtig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657600" cy="2435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1480" y="3048120"/>
            <a:ext cx="3200400" cy="212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Fisch gegess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4419720" cy="29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habe gern gelauf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76720" y="2057400"/>
            <a:ext cx="3162240" cy="392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bin um den See gesege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923760" cy="90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3276720" cy="2183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28600" y="4648320"/>
            <a:ext cx="1805040" cy="129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ch bin im Kino gegan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629400" y="1600200"/>
            <a:ext cx="1333440" cy="952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82872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429000" y="3505320"/>
            <a:ext cx="3063960" cy="2101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7:07:45Z</dcterms:created>
  <dc:creator>CUSD220</dc:creator>
  <dc:description/>
  <dc:language>en-US</dc:language>
  <cp:lastModifiedBy>CUSD220</cp:lastModifiedBy>
  <dcterms:modified xsi:type="dcterms:W3CDTF">2011-11-21T20:50:39Z</dcterms:modified>
  <cp:revision>37</cp:revision>
  <dc:subject/>
  <dc:title>Mein Ferien</dc:title>
</cp:coreProperties>
</file>